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6.jpeg" ContentType="image/jpeg"/>
  <Override PartName="/ppt/media/image17.wmf" ContentType="image/x-wmf"/>
  <Override PartName="/ppt/media/image16.jpeg" ContentType="image/jpeg"/>
  <Override PartName="/ppt/media/image35.wmf" ContentType="image/x-wmf"/>
  <Override PartName="/ppt/media/image39.gif" ContentType="image/gif"/>
  <Override PartName="/ppt/media/image15.png" ContentType="image/png"/>
  <Override PartName="/ppt/media/image34.wmf" ContentType="image/x-wmf"/>
  <Override PartName="/ppt/media/image9.wmf" ContentType="image/x-wmf"/>
  <Override PartName="/ppt/media/image10.jpeg" ContentType="image/jpeg"/>
  <Override PartName="/ppt/media/image42.jpeg" ContentType="image/jpeg"/>
  <Override PartName="/ppt/media/image2.gif" ContentType="image/gif"/>
  <Override PartName="/ppt/media/image8.jpeg" ContentType="image/jpeg"/>
  <Override PartName="/ppt/media/image38.png" ContentType="image/png"/>
  <Override PartName="/ppt/media/image41.wmf" ContentType="image/x-wmf"/>
  <Override PartName="/ppt/media/image30.wmf" ContentType="image/x-wmf"/>
  <Override PartName="/ppt/media/image32.png" ContentType="image/png"/>
  <Override PartName="/ppt/media/image1.jpeg" ContentType="image/jpeg"/>
  <Override PartName="/ppt/media/image40.wmf" ContentType="image/x-wmf"/>
  <Override PartName="/ppt/media/image36.wmf" ContentType="image/x-wmf"/>
  <Override PartName="/ppt/media/image44.jpeg" ContentType="image/jpeg"/>
  <Override PartName="/ppt/media/image45.wmf" ContentType="image/x-wmf"/>
  <Override PartName="/ppt/media/image4.jpeg" ContentType="image/jpeg"/>
  <Override PartName="/ppt/media/image5.png" ContentType="image/png"/>
  <Override PartName="/ppt/media/image43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14.gif" ContentType="image/gif"/>
  <Override PartName="/ppt/media/image37.wmf" ContentType="image/x-wmf"/>
  <Override PartName="/ppt/media/image7.wmf" ContentType="image/x-wmf"/>
  <Override PartName="/ppt/media/image13.jpeg" ContentType="image/jpeg"/>
  <Override PartName="/ppt/media/image12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0DB5-5FCD-4480-9D3F-CCD299C0E9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1612-62EA-459B-8D4A-7CCFA97007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B5F-6469-4958-8705-838B89BF2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F02F-CD6C-45D7-8DA0-4B5A7663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434-7331-46E2-BB88-CA0BAEDA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A274-E14D-4B63-A790-8D5EE52C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3052-FC63-4DF5-9B27-D8B8110C4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6461-E13B-4D0B-A685-EBEBD46B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18AA-50AE-49D3-9E4C-2E2EDF97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3180-DD5A-4C65-940C-7FC3AEAA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885B-6BD4-41E5-B2D3-ED182DCE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B31-1447-4D41-982C-0251C5CF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36EC-A74C-4B96-B7DE-619BDD5D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24EB-D4ED-4AD9-921A-8AF0DC0B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AAA4-916A-43E2-8006-8592DC46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A08D-2E5E-46A3-AE14-C18369B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87BC-2ED1-4FE0-9CF8-26BAADC2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E72E-1B9C-4E55-9B8F-6D15536F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E14-9364-4AEB-BBBB-83A93C40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DFCDE-EC10-46E6-BD24-20661C52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A1301-3C29-402F-89D9-636FFB9E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C73A43-C70A-430B-8BF2-F656386E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7D22DD-1CBB-4022-865D-7EDE6461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AD9DAF-8DBD-430A-B85F-07E9091D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0A4-AAC8-4C93-AED3-29FBC254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3CF0D-0AB7-44A3-A2FE-32BB5C11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565F2-1043-4FE0-A1D6-2CB98A41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FC1B0-7677-4762-B2DB-335E8A6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C1E89-AE0A-4997-9225-A3D36C8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95DF4-0DFD-44DA-9BEF-82A031DA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CDDB5-35A8-4E59-B98D-DDB7FB6A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4D698-8A2A-4E8C-A350-B5BD9B73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1BD7C-E1AD-444F-9738-894507B3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5B8D3-5E37-466F-96DE-6F32ADE3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5512C-87EE-41BD-B5AA-E30E19CE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2A6A-C55D-4D4E-8E74-A2A04B3A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FD6A-265A-4B2D-AD80-1A20F2D0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0C8E-9ADB-435C-9C53-B77993C2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6CFB-9C5F-4992-93B8-78C2AF6F1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B8C1B-7F08-4C9A-B87B-AA6D97B6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D5535-8F8D-487C-893B-DE7C9729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77E4-42B6-4EBD-97CB-44269AD8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4A1B-07FF-4C12-AA45-EB3B16C0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C761D-175F-4C65-86E5-B08859E4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39FB5-7098-48E6-8E29-64AA2C8D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E05D9-2CAD-4267-9D17-586387C4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92F2-77A6-4597-9A80-3D6274B5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1AA72A-31C7-4C2C-923C-7F924F4D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0BD35-385E-4A7A-B4B8-D21EF8D8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A5F081-7D12-41B7-B1A1-E3B8BFDC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D87E7A-EBE3-4287-9B9B-276E5DA2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BD506-E0D6-4D2B-A0A5-CA899C8F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BE2A1-F9CA-4EC6-AEE4-843E4AF0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6F26C-7A68-4C7F-82AC-29811F0D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C3D8B-9C3C-4990-BB9E-BEB7951C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4C22D9-6294-429B-894D-3E117540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4CBD5C-8BFF-407F-9CC1-D2720C70D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9333-B418-4B2D-A011-C92541BD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E4FECF-F43A-4B46-B5D5-A012BFD61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6A62D-6A94-4BBD-AEF8-40D0B68F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011CD9-A0A3-4542-ADEE-1A363E31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75F16-7550-43E5-8D89-846F390E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378B9-E625-4CA1-A6D8-13B17EF5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545F6D-1025-4F88-8FEF-5D3B7A89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ECFAC-5A52-40F6-A96A-7C0EFB65F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270859-64A0-4B52-9C5B-120E9D3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AA9667-72DC-4028-9A3D-C577BB46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2ED0A-BCB3-480A-8A87-16A3AA87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7C36-9CA3-4B75-AC8C-2647BE25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C49821-1BB2-4261-8911-27A28F0D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E3362-8F6A-4382-847F-DD9ADCD1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3C4737-F5E4-4A28-8713-12FEFDB0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637241-5427-4CB7-A0FF-C9A62A6EF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F0EFE-5599-430D-B8B7-A9671EFE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6F5C0D-D6EA-4FB4-B875-EC9F2C8C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B3F2B6-E507-43D7-90E5-963C36F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4E3053-9081-4EE4-8D39-17B2B61B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75F068-F108-4072-9719-CE82C47F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4B6B5A-E80E-4B4A-8D75-B88AD0B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4A9-54CA-416D-B964-4C47954C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5713CD-0F81-4E61-AD8D-BEBCC18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CCD9D5-E09E-4AEA-952E-B4C6C406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E323C5-B472-4208-8CB9-AF1AEF65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50C374-04BF-4D3F-BBA9-6E26BDFEF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E586F9-C5AE-4337-BC57-2B41233F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5394-934F-46DF-B634-E686943B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4A2-53FD-4D40-B0CF-26544A4272C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01E-DAED-4D19-925C-BB7E77525919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C7EC-11DF-47A2-9947-7C8A599793D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197-93A4-41A6-B205-DD0D94A33832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D758-FC3B-417F-88A7-246CFEC966F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3799-56EE-4B48-8969-B062A344E2F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0044-9AA9-4DC2-84F2-D9B0AC778CA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7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ذكاء الاجتماعي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505320" y="5105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Verdana"/>
                <a:cs typeface="AL-Mohanad Bold"/>
              </a:rPr>
              <a:t>للمدرب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L-Mohanad Bold"/>
              </a:rPr>
              <a:t>        د. خالد بن صالح المني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286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فن  التعامل  وقوة التأثير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2895480" y="3276720"/>
            <a:ext cx="3657600" cy="1632240"/>
            <a:chOff x="2895480" y="3276720"/>
            <a:chExt cx="3657600" cy="1632240"/>
          </a:xfrm>
        </p:grpSpPr>
        <p:sp>
          <p:nvSpPr>
            <p:cNvPr id="362" name="WordArt 4"/>
            <p:cNvSpPr txBox="1"/>
            <p:nvPr/>
          </p:nvSpPr>
          <p:spPr>
            <a:xfrm>
              <a:off x="2895480" y="3276720"/>
              <a:ext cx="36576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7598d9"/>
                    </a:solidFill>
                    <a:miter/>
                  </a:ln>
                  <a:solidFill>
                    <a:srgbClr val="bfbfb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K Elham"/>
                </a:rPr>
                <a:t> </a:t>
              </a:r>
              <a:endPara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bfbfb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 Elham"/>
                <a:ea typeface="K Elham"/>
              </a:endParaRPr>
            </a:p>
          </p:txBody>
        </p:sp>
        <p:pic>
          <p:nvPicPr>
            <p:cNvPr id="363" name="Picture 4" descr="C:\Documents and Settings\asus\My Documents\عرض\صور4\backbghearts.gif"/>
            <p:cNvPicPr/>
            <p:nvPr/>
          </p:nvPicPr>
          <p:blipFill>
            <a:blip r:embed="rId2"/>
            <a:stretch/>
          </p:blipFill>
          <p:spPr>
            <a:xfrm>
              <a:off x="2895480" y="3276720"/>
              <a:ext cx="36576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9"/>
            <p:cNvSpPr/>
            <p:nvPr/>
          </p:nvSpPr>
          <p:spPr>
            <a:xfrm>
              <a:off x="3047760" y="3352680"/>
              <a:ext cx="327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800" spc="-1" strike="noStrike">
                  <a:solidFill>
                    <a:srgbClr val="a6a6a6"/>
                  </a:solidFill>
                  <a:latin typeface="Verdana"/>
                  <a:cs typeface="AL-Mohanad Bold"/>
                </a:rPr>
                <a:t>ســــحـــر الــحـــب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 rot="19777200">
            <a:off x="375840" y="5405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كبر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2438280" y="17524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ffff9b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K Elham"/>
              </a:rPr>
              <a:t>اشراقات</a:t>
            </a:r>
            <a:endParaRPr b="1" lang="en-US" sz="7200" spc="1" strike="noStrike">
              <a:ln w="12600">
                <a:solidFill>
                  <a:srgbClr val="515d73"/>
                </a:solidFill>
                <a:miter/>
              </a:ln>
              <a:solidFill>
                <a:srgbClr val="ffff9b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K Elham"/>
              <a:ea typeface="K Elham"/>
            </a:endParaRPr>
          </a:p>
        </p:txBody>
      </p:sp>
      <p:sp>
        <p:nvSpPr>
          <p:cNvPr id="394" name="Rectangle 3"/>
          <p:cNvSpPr/>
          <p:nvPr/>
        </p:nvSpPr>
        <p:spPr>
          <a:xfrm rot="19908000">
            <a:off x="2752200" y="554364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ح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 rot="20265600">
            <a:off x="4541400" y="554796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فكر بأهميته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" descr="C:\Documents and Settings\asus\My Documents\عرض\صور4\80.gif"/>
          <p:cNvPicPr/>
          <p:nvPr/>
        </p:nvPicPr>
        <p:blipFill>
          <a:blip r:embed="rId2"/>
          <a:stretch/>
        </p:blipFill>
        <p:spPr>
          <a:xfrm>
            <a:off x="6095880" y="5335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Diagram 5" descr=""/>
          <p:cNvPicPr/>
          <p:nvPr/>
        </p:nvPicPr>
        <p:blipFill>
          <a:blip r:embed="rId1"/>
          <a:stretch/>
        </p:blipFill>
        <p:spPr>
          <a:xfrm>
            <a:off x="0" y="-907920"/>
            <a:ext cx="8259840" cy="861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asus\My Documents\عرض\صور1\48.JPG"/>
          <p:cNvPicPr/>
          <p:nvPr/>
        </p:nvPicPr>
        <p:blipFill>
          <a:blip r:embed="rId1"/>
          <a:stretch/>
        </p:blipFill>
        <p:spPr>
          <a:xfrm>
            <a:off x="-228600" y="228600"/>
            <a:ext cx="27082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124080" y="1069920"/>
            <a:ext cx="510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قول الناس الذين  يملكون تقمص عاطفي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فهم ماتشعر ب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حزين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إن ضربات قلبي تتسار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 سعيد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فعلون 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بكو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تغير  تعابيره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ساعدون الآخري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شعر بالفرح  إذا  فازو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4" descr="C:\Documents and Settings\asus\My Documents\عرض\صور4\DSGNC039.WMF"/>
          <p:cNvPicPr/>
          <p:nvPr/>
        </p:nvPicPr>
        <p:blipFill>
          <a:blip r:embed="rId2"/>
          <a:stretch/>
        </p:blipFill>
        <p:spPr>
          <a:xfrm>
            <a:off x="1295280" y="3048120"/>
            <a:ext cx="2895840" cy="2290680"/>
          </a:xfrm>
          <a:prstGeom prst="rect">
            <a:avLst/>
          </a:prstGeom>
          <a:ln w="0">
            <a:noFill/>
          </a:ln>
        </p:spPr>
      </p:pic>
      <p:sp>
        <p:nvSpPr>
          <p:cNvPr id="402" name="WordArt 6"/>
          <p:cNvSpPr txBox="1"/>
          <p:nvPr/>
        </p:nvSpPr>
        <p:spPr>
          <a:xfrm>
            <a:off x="609480" y="609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أمل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3886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entury Schoolbook"/>
                <a:cs typeface="K Elham"/>
              </a:rPr>
              <a:t>كُن  صيادا  ماهرا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05520" y="2361960"/>
            <a:ext cx="30477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ماذا  يريد  السمك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حصان  والخادمة الذكي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كار نجي وصاحب الفند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قاعدة  خطيرة 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523880" y="16761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نتصر في كل  معرك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هل  تُريد  أن يحتفى بك  أينما  ذهبت؟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819520" y="32767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صائية  شركة الهات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رئيس وطائر زوج خادمت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ندوب التسويق  الذكي  والطواب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شيك العجيب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ستراتيجية روزفل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5" descr="C:\Documents and Settings\asus\My Documents\My Pictures\Microsoft Clip Organizer\j0402446.jpg"/>
          <p:cNvPicPr/>
          <p:nvPr/>
        </p:nvPicPr>
        <p:blipFill>
          <a:blip r:embed="rId1"/>
          <a:stretch/>
        </p:blipFill>
        <p:spPr>
          <a:xfrm>
            <a:off x="987480" y="530280"/>
            <a:ext cx="3286080" cy="2603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E:\CLIPART\OBJECTS\COMMU\TELE017.WMF"/>
          <p:cNvPicPr/>
          <p:nvPr/>
        </p:nvPicPr>
        <p:blipFill>
          <a:blip r:embed="rId2"/>
          <a:stretch/>
        </p:blipFill>
        <p:spPr>
          <a:xfrm>
            <a:off x="2362320" y="3733920"/>
            <a:ext cx="946080" cy="76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:\CLIPART\ANIMALS\ANIMBIRD\BIRD032.WMF"/>
          <p:cNvPicPr/>
          <p:nvPr/>
        </p:nvPicPr>
        <p:blipFill>
          <a:blip r:embed="rId3"/>
          <a:stretch/>
        </p:blipFill>
        <p:spPr>
          <a:xfrm>
            <a:off x="533520" y="4641840"/>
            <a:ext cx="1218960" cy="80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Documents and Settings\asus\My Documents\My Pictures\stamp.gif"/>
          <p:cNvPicPr/>
          <p:nvPr/>
        </p:nvPicPr>
        <p:blipFill>
          <a:blip r:embed="rId4"/>
          <a:stretch/>
        </p:blipFill>
        <p:spPr>
          <a:xfrm>
            <a:off x="2286000" y="5181480"/>
            <a:ext cx="963720" cy="8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ستخدم رصيد المليون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198072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ماذا 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ذا  تفعل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D:\only me\wafa\photo\smilie.gif"/>
          <p:cNvPicPr/>
          <p:nvPr/>
        </p:nvPicPr>
        <p:blipFill>
          <a:blip r:embed="rId1"/>
          <a:stretch/>
        </p:blipFill>
        <p:spPr>
          <a:xfrm>
            <a:off x="762120" y="4267080"/>
            <a:ext cx="1904760" cy="1895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D:\only me\wafa\photo\smilie.gif"/>
          <p:cNvPicPr/>
          <p:nvPr/>
        </p:nvPicPr>
        <p:blipFill>
          <a:blip r:embed="rId2"/>
          <a:stretch/>
        </p:blipFill>
        <p:spPr>
          <a:xfrm>
            <a:off x="2057400" y="1601640"/>
            <a:ext cx="915840" cy="911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D:\only me\wafa\photo\smilie.gif"/>
          <p:cNvPicPr/>
          <p:nvPr/>
        </p:nvPicPr>
        <p:blipFill>
          <a:blip r:embed="rId3"/>
          <a:stretch/>
        </p:blipFill>
        <p:spPr>
          <a:xfrm>
            <a:off x="5410080" y="4648320"/>
            <a:ext cx="1219320" cy="1212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D:\only me\wafa\photo\smilie.gif"/>
          <p:cNvPicPr/>
          <p:nvPr/>
        </p:nvPicPr>
        <p:blipFill>
          <a:blip r:embed="rId4"/>
          <a:stretch/>
        </p:blipFill>
        <p:spPr>
          <a:xfrm>
            <a:off x="7311960" y="6094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لفك  درهما  ولا دينارا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62520" y="15998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فرغت يا أبا الول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 تكون أفضل  متحدثا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ارنجي وعالم النب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بوزان وفائدة  المرض</a:t>
            </a:r>
            <a:r>
              <a:rPr b="0" lang="ar-SA" sz="3200" spc="-1" strike="noStrike">
                <a:solidFill>
                  <a:srgbClr val="ffffff"/>
                </a:solidFill>
                <a:latin typeface="Century Schoolbook"/>
                <a:ea typeface="AL-Mohanad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8120" y="837720"/>
            <a:ext cx="2590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اهي  أهمية الاستماع؟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34290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424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6" name="Picture 7" descr="C:\Documents and Settings\asus\My Documents\My Pictures\ear.jpg"/>
          <p:cNvPicPr/>
          <p:nvPr/>
        </p:nvPicPr>
        <p:blipFill>
          <a:blip r:embed="rId2"/>
          <a:stretch/>
        </p:blipFill>
        <p:spPr>
          <a:xfrm>
            <a:off x="6095880" y="390600"/>
            <a:ext cx="21621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600200" y="471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cs typeface="K Elham"/>
              </a:rPr>
              <a:t>هناك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5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 نقاط اساسية </a:t>
            </a: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38080" y="1676520"/>
            <a:ext cx="6934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نظر  الى محدثك بانتبا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ما دمت تستمع له فيجب أن تنظر اليه ايضا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قترب من المتحدث واستمع بإصغا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وكأنك لا تريد أن تفوتك أي كلم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طرح الاسئل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اجعل متحدثك متأكدا بأنك تستمع ل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لا تقاطع المتحدث ولا تخرج عن الموضوع حين تسأ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ستعمل كلمات المتحدث حين تحاوره وتجنب استعمال (أنا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أنك اذا استعملت (أنا) تغير تركيز الحديث من المتحدث ال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مع وهذا يجعله المستمع ويجعلك المتحدث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C:\Documents and Settings\asus\My Documents\My Pictures\Microsoft Clip Organizer\j0293480.wmf"/>
          <p:cNvPicPr/>
          <p:nvPr/>
        </p:nvPicPr>
        <p:blipFill>
          <a:blip r:embed="rId1"/>
          <a:stretch/>
        </p:blipFill>
        <p:spPr>
          <a:xfrm>
            <a:off x="762120" y="685800"/>
            <a:ext cx="209844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البداية؟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21333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 يقول  أنه لن  يتغير  فلا يضيع  وقته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أتى ليتعرف أو يقارن أو يتسلى فلن يستفيد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هارة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نتقن فن الاستماع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4" descr="C:\Documents and Settings\asus\My Documents\My Pictures\listen02.gif"/>
          <p:cNvPicPr/>
          <p:nvPr/>
        </p:nvPicPr>
        <p:blipFill>
          <a:blip r:embed="rId1"/>
          <a:stretch/>
        </p:blipFill>
        <p:spPr>
          <a:xfrm>
            <a:off x="762120" y="2438280"/>
            <a:ext cx="30384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C:\Documents and Settings\asus\My Documents\My Pictures\Microsoft Clip Organizer\j0311820.wmf"/>
          <p:cNvPicPr/>
          <p:nvPr/>
        </p:nvPicPr>
        <p:blipFill>
          <a:blip r:embed="rId1"/>
          <a:stretch/>
        </p:blipFill>
        <p:spPr>
          <a:xfrm>
            <a:off x="2514600" y="2463840"/>
            <a:ext cx="3881520" cy="3403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أنواع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98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7315200" y="3039840"/>
            <a:ext cx="15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ٌ في غاية الغرابة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80880" y="751680"/>
            <a:ext cx="58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من عجائبه  أن حساباته  غير  قابلة  للإلغاء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4"/>
          <p:cNvSpPr/>
          <p:nvPr/>
        </p:nvSpPr>
        <p:spPr>
          <a:xfrm rot="21236400">
            <a:off x="5943600" y="2430000"/>
            <a:ext cx="12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ليس  كبقية البنوك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 rot="21304200">
            <a:off x="3966840" y="2792880"/>
            <a:ext cx="13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  تفتحُ فيه  ماشئ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من الحسابات 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905120" y="1956240"/>
            <a:ext cx="158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الحساب  لايستغرق فتحه سوى (ثواني)!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2771640"/>
            <a:ext cx="1523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إيداع   والسحب فيه  بلا أوراق أو  أختام  !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Rectangle 8" descr=""/>
          <p:cNvPicPr/>
          <p:nvPr/>
        </p:nvPicPr>
        <p:blipFill>
          <a:blip r:embed="rId1"/>
          <a:stretch/>
        </p:blipFill>
        <p:spPr>
          <a:xfrm>
            <a:off x="5102280" y="49320"/>
            <a:ext cx="363384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762120" y="16002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AL-Mohanad Bold"/>
              </a:rPr>
              <a:t>هل عرفتم  هذا  البنك العجيب!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بنك المشاع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419360" y="16761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قدار الثقة التي نبنيها وندخرها في علاقة ما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ادخار: الاحترام واللطف والنزاهة والالتزام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حب: عدم الاحترام، العجرفة وتأليه الذات، الخيانة وعدم الالتزام، الحكم الظالم أو التهديد، الاعتراف بأخطاء الآخرين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4" descr="C:\Documents and Settings\asus\My Documents\عرض\صور4\GOVT137.WMF"/>
          <p:cNvPicPr/>
          <p:nvPr/>
        </p:nvPicPr>
        <p:blipFill>
          <a:blip r:embed="rId2"/>
          <a:stretch/>
        </p:blipFill>
        <p:spPr>
          <a:xfrm>
            <a:off x="685800" y="1905120"/>
            <a:ext cx="3228840" cy="355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ختر  شخص  عزيز  وتأمل في ثلاثة سحوبات وخصومات متوقع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خصوم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3124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يداع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304920" y="53352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228600" y="763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K Elham"/>
              </a:rPr>
              <a:t>تمرين فرد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Century Schoolbook"/>
                <a:cs typeface="K Elham"/>
              </a:rPr>
              <a:t>الفرصة  الوحيدة (الانطباع الأول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77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بداية  من ذات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بتس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فاءل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شخ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دم نفس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نظر لعيني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قرأ في الأحداث...وأحفظ  شيئا من الطرف والنواد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6" descr="E:\CLIPART\PEOPLE\MENPROF\MENO076.WMF"/>
          <p:cNvPicPr/>
          <p:nvPr/>
        </p:nvPicPr>
        <p:blipFill>
          <a:blip r:embed="rId1"/>
          <a:stretch/>
        </p:blipFill>
        <p:spPr>
          <a:xfrm>
            <a:off x="1828800" y="2286000"/>
            <a:ext cx="2286000" cy="25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098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حدث عن نفسك كثير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دعي المعرف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فظ ماء وجه محدث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5" name="Picture 6" descr="C:\Documents and Settings\asus\My Documents\عرض\صور4\GOVT143.WMF"/>
          <p:cNvPicPr/>
          <p:nvPr/>
        </p:nvPicPr>
        <p:blipFill>
          <a:blip r:embed="rId1"/>
          <a:stretch/>
        </p:blipFill>
        <p:spPr>
          <a:xfrm>
            <a:off x="380880" y="685800"/>
            <a:ext cx="4724640" cy="5562720"/>
          </a:xfrm>
          <a:prstGeom prst="rect">
            <a:avLst/>
          </a:prstGeom>
          <a:ln w="0">
            <a:noFill/>
          </a:ln>
        </p:spPr>
      </p:pic>
      <p:pic>
        <p:nvPicPr>
          <p:cNvPr id="456" name="WordArt 4" descr=""/>
          <p:cNvPicPr/>
          <p:nvPr/>
        </p:nvPicPr>
        <p:blipFill>
          <a:blip r:embed="rId2"/>
          <a:stretch/>
        </p:blipFill>
        <p:spPr>
          <a:xfrm>
            <a:off x="1749600" y="3651120"/>
            <a:ext cx="1670040" cy="101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ن فضوليا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ضع لك محيطا حيويا  ولاتتجاوز محيط الآخر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حبيب  اللهم  صلي وسلم عليه مع  أبي تراب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6" descr="C:\Documents and Settings\asus\My Documents\عرض\صور4\DSGNC036.WMF"/>
          <p:cNvPicPr/>
          <p:nvPr/>
        </p:nvPicPr>
        <p:blipFill>
          <a:blip r:embed="rId1"/>
          <a:stretch/>
        </p:blipFill>
        <p:spPr>
          <a:xfrm>
            <a:off x="3276720" y="3809880"/>
            <a:ext cx="2438280" cy="1893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C:\Documents and Settings\asus\My Documents\عرض\صور4\EROAD178.WMF"/>
          <p:cNvPicPr/>
          <p:nvPr/>
        </p:nvPicPr>
        <p:blipFill>
          <a:blip r:embed="rId2"/>
          <a:stretch/>
        </p:blipFill>
        <p:spPr>
          <a:xfrm>
            <a:off x="762120" y="3886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C:\Documents and Settings\asus\My Documents\عرض\صور4\SGNRD022.WMF"/>
          <p:cNvPicPr/>
          <p:nvPr/>
        </p:nvPicPr>
        <p:blipFill>
          <a:blip r:embed="rId3"/>
          <a:stretch/>
        </p:blipFill>
        <p:spPr>
          <a:xfrm>
            <a:off x="6858000" y="3956040"/>
            <a:ext cx="13096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قتنص  المواقف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5" descr="C:\Documents and Settings\asus\My Documents\عرض\صور4\ICONN103.WMF"/>
          <p:cNvPicPr/>
          <p:nvPr/>
        </p:nvPicPr>
        <p:blipFill>
          <a:blip r:embed="rId1"/>
          <a:stretch/>
        </p:blipFill>
        <p:spPr>
          <a:xfrm>
            <a:off x="60958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E:\CLIPART\PEOPLE\HANDS\HAND141.WMF"/>
          <p:cNvPicPr/>
          <p:nvPr/>
        </p:nvPicPr>
        <p:blipFill>
          <a:blip r:embed="rId2"/>
          <a:stretch/>
        </p:blipFill>
        <p:spPr>
          <a:xfrm>
            <a:off x="914400" y="1600200"/>
            <a:ext cx="4191120" cy="4029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 rot="20706600">
            <a:off x="1914120" y="2358720"/>
            <a:ext cx="15238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هم موقفين في الحياة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152280" y="0"/>
            <a:ext cx="86108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شمعة  المضيئة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295280" y="19051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صة ذو المسدس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جنب الانتقاد (انتقاد كاد يكلف  الحياة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قصر الطرق لكسب العداو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9" name="Rectangle 6" descr=""/>
          <p:cNvPicPr/>
          <p:nvPr/>
        </p:nvPicPr>
        <p:blipFill>
          <a:blip r:embed="rId1"/>
          <a:stretch/>
        </p:blipFill>
        <p:spPr>
          <a:xfrm>
            <a:off x="2359080" y="4840200"/>
            <a:ext cx="5346720" cy="82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asus\My Documents\My Pictures\d8207cba96.gif"/>
          <p:cNvPicPr/>
          <p:nvPr/>
        </p:nvPicPr>
        <p:blipFill>
          <a:blip r:embed="rId2"/>
          <a:stretch/>
        </p:blipFill>
        <p:spPr>
          <a:xfrm>
            <a:off x="763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Documents and Settings\asus\My Documents\My Pictures\d8207cba96.gif"/>
          <p:cNvPicPr/>
          <p:nvPr/>
        </p:nvPicPr>
        <p:blipFill>
          <a:blip r:embed="rId3"/>
          <a:stretch/>
        </p:blipFill>
        <p:spPr>
          <a:xfrm>
            <a:off x="67057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E:\CLIPART\ANIMALS\INSECTS\INSEC053.WMF"/>
          <p:cNvPicPr/>
          <p:nvPr/>
        </p:nvPicPr>
        <p:blipFill>
          <a:blip r:embed="rId4"/>
          <a:stretch/>
        </p:blipFill>
        <p:spPr>
          <a:xfrm>
            <a:off x="838080" y="5172120"/>
            <a:ext cx="1629000" cy="1305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E:\CLIPART\ANIMALS\CARTANIM\CINSE022.WMF"/>
          <p:cNvPicPr/>
          <p:nvPr/>
        </p:nvPicPr>
        <p:blipFill>
          <a:blip r:embed="rId5"/>
          <a:stretch/>
        </p:blipFill>
        <p:spPr>
          <a:xfrm>
            <a:off x="6553080" y="5791320"/>
            <a:ext cx="863640" cy="67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95480" y="1828800"/>
            <a:ext cx="56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 تشعر أنك ناجح في كسب الآخري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ستطيع الخروج  من المواقف المحرجة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حدث فينصت لك الآخرو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حس أن الناس يفرحون  بوجود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عامل مع الكل بحسب حا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وقعت لك مشاكل بسبب تعامل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أعجبك تعامل شخص وحاكيت فع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رأيت شخصا محبوبا وتمنيت أن تُحب مث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Documents and Settings\asus\My Documents\عرض\صور4\GOVT098.WMF"/>
          <p:cNvPicPr/>
          <p:nvPr/>
        </p:nvPicPr>
        <p:blipFill>
          <a:blip r:embed="rId1"/>
          <a:stretch/>
        </p:blipFill>
        <p:spPr>
          <a:xfrm>
            <a:off x="457200" y="3809880"/>
            <a:ext cx="2666880" cy="2551320"/>
          </a:xfrm>
          <a:prstGeom prst="rect">
            <a:avLst/>
          </a:prstGeom>
          <a:ln w="0">
            <a:noFill/>
          </a:ln>
        </p:spPr>
      </p:pic>
      <p:sp>
        <p:nvSpPr>
          <p:cNvPr id="369" name="Right Triangle 6"/>
          <p:cNvSpPr/>
          <p:nvPr/>
        </p:nvSpPr>
        <p:spPr>
          <a:xfrm rot="5400000">
            <a:off x="1866960" y="-1866960"/>
            <a:ext cx="3581280" cy="7315200"/>
          </a:xfrm>
          <a:prstGeom prst="rtTriangle">
            <a:avLst/>
          </a:prstGeom>
          <a:solidFill>
            <a:srgbClr val="fe9650"/>
          </a:solidFill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cs typeface="K Elham"/>
              </a:rPr>
              <a:t>حقق  أمانيك  مع.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دورة الذكاء الاجتماع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0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76720" y="350640"/>
            <a:ext cx="2209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cs typeface="K Elham"/>
              </a:rPr>
              <a:t>فن</a:t>
            </a:r>
            <a:br>
              <a:rPr sz="4900"/>
            </a:b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النقد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692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قواعد النقد البنا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حسن ال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داهم النواي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متعاطف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كث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نقد بين  القبول والتقب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611c"/>
                </a:solidFill>
                <a:latin typeface="Century Schoolbook"/>
                <a:cs typeface="ACS  Zomorrod Extra Bold"/>
              </a:rPr>
              <a:t>استراتيجية  الفطير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575f6d"/>
                </a:solidFill>
                <a:latin typeface="Century Schoolbook"/>
                <a:cs typeface="Andalus"/>
              </a:rPr>
              <a:t>ثناء_الملاحظة_شكر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قم  بكتابة  رسالة تنصح  فيها زميلا  مقصرا في صلاة الجما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228600" y="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537480" y="590400"/>
            <a:ext cx="1276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5f6d"/>
                </a:solidFill>
                <a:latin typeface="Verdana"/>
                <a:cs typeface="Andalus"/>
              </a:rPr>
              <a:t>نشا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85840" y="228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فن النقد  اتقن  فن............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:\Documents and Settings\asus\My Documents\عرض\صور4\4.JPG"/>
          <p:cNvPicPr/>
          <p:nvPr/>
        </p:nvPicPr>
        <p:blipFill>
          <a:blip r:embed="rId1"/>
          <a:stretch/>
        </p:blipFill>
        <p:spPr>
          <a:xfrm rot="18546600">
            <a:off x="1947600" y="569160"/>
            <a:ext cx="5085000" cy="6777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 rot="19577400">
            <a:off x="2031840" y="1374840"/>
            <a:ext cx="228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كيف تتعامل مع المعروف عندما تقدمه او يقدم لك؟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99840" y="2057400"/>
            <a:ext cx="6095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من الفائز؟</a:t>
            </a:r>
            <a:endParaRPr b="0" lang="en-US" sz="10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u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</a:rPr>
              <a:t>انتصار  بطعم  الهزيم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قاعدة الأجمل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 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4" descr="C:\Documents and Settings\asus\My Documents\عرض\صور4\DSGNC041.WMF"/>
          <p:cNvPicPr/>
          <p:nvPr/>
        </p:nvPicPr>
        <p:blipFill>
          <a:blip r:embed="rId1"/>
          <a:stretch/>
        </p:blipFill>
        <p:spPr>
          <a:xfrm>
            <a:off x="2057400" y="2286000"/>
            <a:ext cx="359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نازعت مع  أحد  إخوانك على  موضوع إحضار اختك من الجام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اهي  الحلول الممكنة وماهو الحل الأمثل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457200" y="152280"/>
            <a:ext cx="2819520" cy="1460520"/>
            <a:chOff x="457200" y="152280"/>
            <a:chExt cx="2819520" cy="1460520"/>
          </a:xfrm>
        </p:grpSpPr>
        <p:pic>
          <p:nvPicPr>
            <p:cNvPr id="490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457200" y="304560"/>
              <a:ext cx="281952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2"/>
            <p:cNvSpPr/>
            <p:nvPr/>
          </p:nvSpPr>
          <p:spPr>
            <a:xfrm>
              <a:off x="766800" y="152280"/>
              <a:ext cx="1897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2"/>
          <p:cNvSpPr/>
          <p:nvPr/>
        </p:nvSpPr>
        <p:spPr>
          <a:xfrm>
            <a:off x="1295280" y="1905120"/>
            <a:ext cx="523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e8637"/>
                </a:solidFill>
                <a:latin typeface="Verdana"/>
                <a:cs typeface="K Elham"/>
              </a:rPr>
              <a:t>تم بحمد الله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2590920" y="5867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  <a:cs typeface="AL-Mohanad Bold"/>
              </a:rPr>
              <a:t>د. خالد بن صالح المني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8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0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3581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أن  نبدأ 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19520" y="18288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 ترضى بأقل من عشر فوائد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وعاهد الله  بنية صادقة على التطبي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2819160"/>
            <a:ext cx="4876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1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من النجاح الوظيفي  يرجع للذكاء المنطق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8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يرجع للذكاء العاطف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Rectangle 5" descr=""/>
          <p:cNvPicPr/>
          <p:nvPr/>
        </p:nvPicPr>
        <p:blipFill>
          <a:blip r:embed="rId1"/>
          <a:stretch/>
        </p:blipFill>
        <p:spPr>
          <a:xfrm>
            <a:off x="291960" y="42840"/>
            <a:ext cx="4627800" cy="3267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sus\My Documents\عرض\صور4\23.JPG"/>
          <p:cNvPicPr/>
          <p:nvPr/>
        </p:nvPicPr>
        <p:blipFill>
          <a:blip r:embed="rId2"/>
          <a:stretch/>
        </p:blipFill>
        <p:spPr>
          <a:xfrm>
            <a:off x="5257800" y="380880"/>
            <a:ext cx="3152880" cy="243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c8d6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42670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ــــــاســــبـــــــك من حسن الخل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9320" y="34286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379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1" name="Picture 5" descr="C:\Documents and Settings\asus\My Documents\عرض\صور4\3.JPG"/>
          <p:cNvPicPr/>
          <p:nvPr/>
        </p:nvPicPr>
        <p:blipFill>
          <a:blip r:embed="rId2"/>
          <a:stretch/>
        </p:blipFill>
        <p:spPr>
          <a:xfrm>
            <a:off x="4419720" y="0"/>
            <a:ext cx="213336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57800" y="1188720"/>
            <a:ext cx="2743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اسبك</a:t>
            </a:r>
            <a:endParaRPr b="0" lang="en-US" sz="6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6000" y="3048120"/>
            <a:ext cx="4341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8637"/>
                </a:solidFill>
                <a:latin typeface="Century Schoolbook"/>
                <a:cs typeface="AL-Mohanad Bold"/>
              </a:rPr>
              <a:t>لتفـعيل مرؤوسي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cc"/>
                </a:solidFill>
                <a:latin typeface="Century Schoolbook"/>
                <a:cs typeface="AL-Mohanad Bold"/>
              </a:rPr>
              <a:t>لأسرة سعيدة وتربية حميد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أزواج و الزوج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9966"/>
                </a:solidFill>
                <a:latin typeface="Century Schoolbook"/>
                <a:cs typeface="AL-Mohanad Bold"/>
              </a:rPr>
              <a:t>الدعــــا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a7007"/>
                </a:solidFill>
                <a:latin typeface="Century Schoolbook"/>
                <a:cs typeface="AL-Mohanad Bold"/>
              </a:rPr>
              <a:t>والمربي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67080" y="3504960"/>
            <a:ext cx="3657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Century Schoolbook"/>
                <a:cs typeface="AL-Mohanad Bold"/>
              </a:rPr>
              <a:t>التعامل مع الناس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598d9"/>
                </a:solidFill>
                <a:latin typeface="Century Schoolbook"/>
                <a:cs typeface="AL-Mohanad Bold"/>
              </a:rPr>
              <a:t>نحن في حـاجـتـ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AL-Mohanad Bold"/>
              </a:rPr>
              <a:t>وهم في حاج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668c4"/>
                </a:solidFill>
                <a:latin typeface="Century Schoolbook"/>
                <a:cs typeface="AL-Mohanad Bold"/>
              </a:rPr>
              <a:t>لـلـدنـيـ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66"/>
                </a:solidFill>
                <a:latin typeface="Al-Kharashi 45"/>
                <a:cs typeface="AL-Mohanad Bold"/>
              </a:rPr>
              <a:t>وللآخـــــ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C:\Documents and Settings\asus\My Documents\عرض\صور\GOVT131.WMF"/>
          <p:cNvPicPr/>
          <p:nvPr/>
        </p:nvPicPr>
        <p:blipFill>
          <a:blip r:embed="rId1"/>
          <a:stretch/>
        </p:blipFill>
        <p:spPr>
          <a:xfrm>
            <a:off x="1828800" y="685800"/>
            <a:ext cx="259092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C:\Documents and Settings\asus\My Documents\عرض\صور4\8.JPG"/>
          <p:cNvPicPr/>
          <p:nvPr/>
        </p:nvPicPr>
        <p:blipFill>
          <a:blip r:embed="rId1"/>
          <a:stretch/>
        </p:blipFill>
        <p:spPr>
          <a:xfrm>
            <a:off x="6477120" y="-2590920"/>
            <a:ext cx="2185920" cy="2590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 rot="684600">
            <a:off x="5743440" y="1133280"/>
            <a:ext cx="159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خطو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أولى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Rectangle 6" descr=""/>
          <p:cNvPicPr/>
          <p:nvPr/>
        </p:nvPicPr>
        <p:blipFill>
          <a:blip r:embed="rId2"/>
          <a:stretch/>
        </p:blipFill>
        <p:spPr>
          <a:xfrm>
            <a:off x="-66600" y="16700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08611 0.4 E">
                                      <p:cBhvr>
                                        <p:cTn id="30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1069920"/>
            <a:ext cx="4572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عمق رغبة إنسانية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هو الشيء الذي  يجعل  الآخرين  سعداء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عرف  اول ما تطالب به  الدول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غنى رجلين في العالم  يقدمان  لك  وصفة  سحرية للتعام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رقم قياسي للزواج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:\only me\wafa3\no body\Things\brxbxp28323.jpg"/>
          <p:cNvPicPr/>
          <p:nvPr/>
        </p:nvPicPr>
        <p:blipFill>
          <a:blip r:embed="rId1"/>
          <a:stretch/>
        </p:blipFill>
        <p:spPr>
          <a:xfrm>
            <a:off x="609480" y="1155600"/>
            <a:ext cx="3407040" cy="4178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 rot="21363000">
            <a:off x="1117080" y="2248920"/>
            <a:ext cx="2438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س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خطي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4:18Z</dcterms:created>
  <dc:creator>user</dc:creator>
  <dc:description/>
  <dc:language>en-US</dc:language>
  <cp:lastModifiedBy>www.arabswell.com</cp:lastModifiedBy>
  <dcterms:modified xsi:type="dcterms:W3CDTF">2008-03-03T13:10:54Z</dcterms:modified>
  <cp:revision>29</cp:revision>
  <dc:subject/>
  <dc:title>فن  التعامل  وقوة التأثير  </dc:title>
</cp:coreProperties>
</file>